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49AF-E070-4575-A8D6-96C39AF73C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  <a:ea typeface="Arial"/>
              </a:rPr>
              <a:t>Payback Period = [Cost of energy saving asset]/[Annual cash flows]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25DB-1300-4E9B-B890-002737FE05BF}" type="slidenum">
              <a:rPr b="0" lang="en-A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0998-F371-489D-B79D-2AF8448C1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0E7A-37AE-42B1-8AEC-B3A68937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066D-130D-4764-87C9-34D080B99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6DFB-8188-482E-A068-0C31CE25B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B4D1-F9C8-4B75-BE8E-CF8278FB0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CF74-0B0D-49F4-A719-40B70659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53A0-C583-4E95-9D68-CDBE374D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6B7D-7EDC-4159-BB59-BFC132F6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BAC7-B507-42C5-93D9-20D720C3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812C-B0FF-4E16-9524-BDAD5630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2CFF-3489-462D-9E9C-8382F975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EFAE-F5D5-4E81-93F1-35F9188C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38A6-F488-456E-8618-22C9D506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378D-6667-4110-B619-F876D17F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C5C0-D71F-4A2C-B875-0BD7C820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9FF5-14A2-41BD-9433-F38932D6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271F-1D79-441B-8E26-2ED4A9D18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72F9-552B-44C9-94C2-1FE2BEDD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4167-E3FF-457A-91FD-ED5C4BB1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C9D4-8808-4E4D-ADA0-A41A1F89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9686-B23C-406C-B70E-ECADE1B4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2816-3DBA-4DAA-918A-DDB46147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3BDA-9CD6-450B-A7E2-70B92EB4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39A5-1F4A-4001-9BE1-3BC418B5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BF4F-B0BC-4793-8010-FFD72F3AA93C}" type="slidenum">
              <a:rPr b="0" lang="en-A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3B65-3973-4579-B29B-DAA8475C1470}" type="slidenum">
              <a:rPr b="0" lang="en-A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14360" y="-920880"/>
            <a:ext cx="8570880" cy="41277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Focus on the benefi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Keep everyone informed  and involv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Get  energy efficient around the offi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itle 1" descr=""/>
          <p:cNvPicPr/>
          <p:nvPr/>
        </p:nvPicPr>
        <p:blipFill>
          <a:blip r:embed="rId1"/>
          <a:stretch/>
        </p:blipFill>
        <p:spPr>
          <a:xfrm>
            <a:off x="450720" y="-176040"/>
            <a:ext cx="8242560" cy="1603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Book Antiqua"/>
              </a:rPr>
              <a:t>Purchasing of energy via renewable energy sources minimises your global impact and provides a strong environmentally friendly message to customers and staff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Book Antiqua"/>
              </a:rPr>
              <a:t>Increase Awarenes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Book Antiqua"/>
              </a:rPr>
              <a:t>Encourage Recycl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Book Antiqua"/>
              </a:rPr>
              <a:t>Identify Opportunit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Book Antiqua"/>
              </a:rPr>
              <a:t>Collect data within the organisation and analyse consumption with the need to reduce the power bill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0720" y="-176040"/>
            <a:ext cx="8242560" cy="1603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Improved business provide job secur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Creation of new job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 </a:t>
            </a: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Makes it possible for businesses to be open 24 x7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Cost effectivenes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448840" cy="1439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cess usage ie over usag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se of energy efficient luminaire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433440" y="103320"/>
            <a:ext cx="8362800" cy="1439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Always have spare hardware aroun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Pay for all software to get support and stay on the safe side of the law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All hardware and software should be secured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  <a:ea typeface="Arial"/>
              </a:rPr>
              <a:t>and available as and when need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  <a:ea typeface="Arial"/>
              </a:rPr>
              <a:t>Use of ICTs help improve the quality of education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le 1" descr=""/>
          <p:cNvPicPr/>
          <p:nvPr/>
        </p:nvPicPr>
        <p:blipFill>
          <a:blip r:embed="rId1"/>
          <a:stretch/>
        </p:blipFill>
        <p:spPr>
          <a:xfrm>
            <a:off x="378000" y="103320"/>
            <a:ext cx="8480160" cy="1323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98240" indent="-3740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  <a:ea typeface="Arial"/>
              </a:rPr>
              <a:t>IT service reliability, integrity and protection—how do we remove barriers, extend controls and leverage processes to improve IT responsiveness and reduce costs and risk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  <a:ea typeface="Arial"/>
              </a:rPr>
              <a:t>Make sure all of your PCs use antivirus software and if you're using Windows, add antispyware protec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  <a:ea typeface="Arial"/>
              </a:rPr>
              <a:t>scan regularly for threa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  <a:ea typeface="Arial"/>
              </a:rPr>
              <a:t>Start doing regular off-site backups now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  <a:ea typeface="Arial"/>
              </a:rPr>
              <a:t>Disable file/print sharing on everything other than your file serv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tle 1" descr=""/>
          <p:cNvPicPr/>
          <p:nvPr/>
        </p:nvPicPr>
        <p:blipFill>
          <a:blip r:embed="rId1"/>
          <a:stretch/>
        </p:blipFill>
        <p:spPr>
          <a:xfrm>
            <a:off x="450720" y="-262080"/>
            <a:ext cx="8321760" cy="1322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Cloud"/>
          <p:cNvSpPr/>
          <p:nvPr/>
        </p:nvSpPr>
        <p:spPr>
          <a:xfrm>
            <a:off x="0" y="1125360"/>
            <a:ext cx="1800360" cy="1204920"/>
          </a:xfrm>
          <a:custGeom>
            <a:avLst/>
            <a:gdLst>
              <a:gd name="textAreaLeft" fmla="*/ 248040 w 1800360"/>
              <a:gd name="textAreaRight" fmla="*/ 1424160 w 1800360"/>
              <a:gd name="textAreaTop" fmla="*/ 181800 h 1204920"/>
              <a:gd name="textAreaBottom" fmla="*/ 967320 h 12049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2" name="Picture 5" descr="C:\Users\Administrator\AppData\Local\Microsoft\Windows\Temporary Internet Files\Content.IE5\1JQQ7I3X\MC900432567[1].png"/>
          <p:cNvPicPr/>
          <p:nvPr/>
        </p:nvPicPr>
        <p:blipFill>
          <a:blip r:embed="rId2"/>
          <a:stretch/>
        </p:blipFill>
        <p:spPr>
          <a:xfrm>
            <a:off x="5724360" y="836640"/>
            <a:ext cx="1584360" cy="1130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C:\Users\Administrator\AppData\Local\Microsoft\Windows\Temporary Internet Files\Content.IE5\U6FDESM4\MC900431576[1].png"/>
          <p:cNvPicPr/>
          <p:nvPr/>
        </p:nvPicPr>
        <p:blipFill>
          <a:blip r:embed="rId3"/>
          <a:stretch/>
        </p:blipFill>
        <p:spPr>
          <a:xfrm>
            <a:off x="7451640" y="5084640"/>
            <a:ext cx="1528920" cy="1538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C:\Users\Administrator\AppData\Local\Microsoft\Windows\Temporary Internet Files\Content.IE5\U6FDESM4\MC900431576[1].png"/>
          <p:cNvPicPr/>
          <p:nvPr/>
        </p:nvPicPr>
        <p:blipFill>
          <a:blip r:embed="rId4"/>
          <a:stretch/>
        </p:blipFill>
        <p:spPr>
          <a:xfrm>
            <a:off x="5292720" y="5013360"/>
            <a:ext cx="1527120" cy="1538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C:\Users\Administrator\AppData\Local\Microsoft\Windows\Temporary Internet Files\Content.IE5\U6FDESM4\MC900431576[1].png"/>
          <p:cNvPicPr/>
          <p:nvPr/>
        </p:nvPicPr>
        <p:blipFill>
          <a:blip r:embed="rId5"/>
          <a:stretch/>
        </p:blipFill>
        <p:spPr>
          <a:xfrm>
            <a:off x="3203640" y="4941720"/>
            <a:ext cx="1528560" cy="1538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C:\Users\Administrator\AppData\Local\Microsoft\Windows\Temporary Internet Files\Content.IE5\KPFVNEAZ\MC900282474[1].wmf"/>
          <p:cNvPicPr/>
          <p:nvPr/>
        </p:nvPicPr>
        <p:blipFill>
          <a:blip r:embed="rId6"/>
          <a:stretch/>
        </p:blipFill>
        <p:spPr>
          <a:xfrm>
            <a:off x="611280" y="4581360"/>
            <a:ext cx="1827000" cy="1522440"/>
          </a:xfrm>
          <a:prstGeom prst="rect">
            <a:avLst/>
          </a:prstGeom>
          <a:ln w="0">
            <a:noFill/>
          </a:ln>
        </p:spPr>
      </p:pic>
      <p:cxnSp>
        <p:nvCxnSpPr>
          <p:cNvPr id="107" name="Straight Arrow Connector 13"/>
          <p:cNvCxnSpPr/>
          <p:nvPr/>
        </p:nvCxnSpPr>
        <p:spPr>
          <a:xfrm>
            <a:off x="1907640" y="1557000"/>
            <a:ext cx="4033080" cy="1080"/>
          </a:xfrm>
          <a:prstGeom prst="straightConnector1">
            <a:avLst/>
          </a:prstGeom>
          <a:ln w="9360">
            <a:solidFill>
              <a:srgbClr val="988744"/>
            </a:solidFill>
            <a:miter/>
            <a:headEnd len="med" type="arrow" w="med"/>
            <a:tailEnd len="med" type="arrow" w="med"/>
          </a:ln>
        </p:spPr>
      </p:cxnSp>
      <p:pic>
        <p:nvPicPr>
          <p:cNvPr id="108" name="Picture 9" descr="C:\Users\Administrator\AppData\Local\Microsoft\Windows\Temporary Internet Files\Content.IE5\MKL3RYBI\MC900434845[1].png"/>
          <p:cNvPicPr/>
          <p:nvPr/>
        </p:nvPicPr>
        <p:blipFill>
          <a:blip r:embed="rId7"/>
          <a:stretch/>
        </p:blipFill>
        <p:spPr>
          <a:xfrm>
            <a:off x="3780000" y="256536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C:\Users\Administrator\AppData\Local\Microsoft\Windows\Temporary Internet Files\Content.IE5\MKL3RYBI\MC900434845[1].png"/>
          <p:cNvPicPr/>
          <p:nvPr/>
        </p:nvPicPr>
        <p:blipFill>
          <a:blip r:embed="rId8"/>
          <a:stretch/>
        </p:blipFill>
        <p:spPr>
          <a:xfrm>
            <a:off x="6300720" y="2421000"/>
            <a:ext cx="1714680" cy="1714320"/>
          </a:xfrm>
          <a:prstGeom prst="rect">
            <a:avLst/>
          </a:prstGeom>
          <a:ln w="0">
            <a:noFill/>
          </a:ln>
        </p:spPr>
      </p:pic>
      <p:cxnSp>
        <p:nvCxnSpPr>
          <p:cNvPr id="110" name="Straight Arrow Connector 17"/>
          <p:cNvCxnSpPr/>
          <p:nvPr/>
        </p:nvCxnSpPr>
        <p:spPr>
          <a:xfrm>
            <a:off x="5076360" y="3284280"/>
            <a:ext cx="1367640" cy="1080"/>
          </a:xfrm>
          <a:prstGeom prst="straightConnector1">
            <a:avLst/>
          </a:prstGeom>
          <a:ln w="9360">
            <a:solidFill>
              <a:srgbClr val="988744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1" name="Straight Arrow Connector 19"/>
          <p:cNvCxnSpPr/>
          <p:nvPr/>
        </p:nvCxnSpPr>
        <p:spPr>
          <a:xfrm flipH="1" flipV="1">
            <a:off x="6659280" y="1628280"/>
            <a:ext cx="434160" cy="1153440"/>
          </a:xfrm>
          <a:prstGeom prst="straightConnector1">
            <a:avLst/>
          </a:prstGeom>
          <a:ln w="9360">
            <a:solidFill>
              <a:srgbClr val="988744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2" name="Straight Arrow Connector 21"/>
          <p:cNvCxnSpPr/>
          <p:nvPr/>
        </p:nvCxnSpPr>
        <p:spPr>
          <a:xfrm flipH="1">
            <a:off x="2267640" y="3860640"/>
            <a:ext cx="1799640" cy="1224720"/>
          </a:xfrm>
          <a:prstGeom prst="straightConnector1">
            <a:avLst/>
          </a:prstGeom>
          <a:ln w="9360">
            <a:solidFill>
              <a:srgbClr val="988744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3" name="Straight Arrow Connector 23"/>
          <p:cNvCxnSpPr/>
          <p:nvPr/>
        </p:nvCxnSpPr>
        <p:spPr>
          <a:xfrm flipH="1">
            <a:off x="4426920" y="4005360"/>
            <a:ext cx="73800" cy="1224720"/>
          </a:xfrm>
          <a:prstGeom prst="straightConnector1">
            <a:avLst/>
          </a:prstGeom>
          <a:ln w="9360">
            <a:solidFill>
              <a:srgbClr val="988744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4" name="Straight Arrow Connector 25"/>
          <p:cNvCxnSpPr/>
          <p:nvPr/>
        </p:nvCxnSpPr>
        <p:spPr>
          <a:xfrm>
            <a:off x="4787640" y="3933720"/>
            <a:ext cx="1369080" cy="1440360"/>
          </a:xfrm>
          <a:prstGeom prst="straightConnector1">
            <a:avLst/>
          </a:prstGeom>
          <a:ln w="9360">
            <a:solidFill>
              <a:srgbClr val="988744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5" name="Straight Arrow Connector 27"/>
          <p:cNvCxnSpPr/>
          <p:nvPr/>
        </p:nvCxnSpPr>
        <p:spPr>
          <a:xfrm>
            <a:off x="5003280" y="3789360"/>
            <a:ext cx="3025080" cy="1728000"/>
          </a:xfrm>
          <a:prstGeom prst="straightConnector1">
            <a:avLst/>
          </a:prstGeom>
          <a:ln w="9360">
            <a:solidFill>
              <a:srgbClr val="988744"/>
            </a:solidFill>
            <a:miter/>
            <a:headEnd len="med" type="arrow" w="med"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323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Average Energy  Proportion of Total</a:t>
            </a:r>
            <a:r>
              <a:rPr b="0" lang="en-AU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Annual CO2 Emissions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Common Equipmen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60 Watts (Router + Server + Switch)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46%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8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Desktop Equipmen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52 Watts (2x Thin Clients + monitors)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41%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Printing Equipmen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16 Watts (1x printer)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13%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Title 1" descr=""/>
          <p:cNvPicPr/>
          <p:nvPr/>
        </p:nvPicPr>
        <p:blipFill>
          <a:blip r:embed="rId1"/>
          <a:stretch/>
        </p:blipFill>
        <p:spPr>
          <a:xfrm>
            <a:off x="365040" y="-176040"/>
            <a:ext cx="8663040" cy="2004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31000" indent="-3985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Book Antiqua"/>
              </a:rPr>
              <a:t>Replacing large electric heating appliances such as ovens and dryers with equivalent gas appliance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Book Antiqua"/>
              </a:rPr>
              <a:t>Controlling deferrable loads to periods of least cost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Book Antiqua"/>
              </a:rPr>
              <a:t>Reducing lighting in ‘over-lit’ area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Book Antiqua"/>
              </a:rPr>
              <a:t>Automating lighting, air handling and other services to turn-off at pre-defined period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Book Antiqua"/>
              </a:rPr>
              <a:t>Night-time ventilation of buildings to utilise cooler temperatures to cool building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Book Antiqua"/>
              </a:rPr>
              <a:t>Centralise or de-centralise air conditioning and/or hot water services to minimise overall heat gain or los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itle 1" descr=""/>
          <p:cNvPicPr/>
          <p:nvPr/>
        </p:nvPicPr>
        <p:blipFill>
          <a:blip r:embed="rId1"/>
          <a:stretch/>
        </p:blipFill>
        <p:spPr>
          <a:xfrm>
            <a:off x="450720" y="-176040"/>
            <a:ext cx="8242560" cy="1603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C:\Users\Toindepi\Downloads\payback3.jpg"/>
          <p:cNvPicPr/>
          <p:nvPr/>
        </p:nvPicPr>
        <p:blipFill>
          <a:blip r:embed="rId2"/>
          <a:stretch/>
        </p:blipFill>
        <p:spPr>
          <a:xfrm>
            <a:off x="684360" y="1484280"/>
            <a:ext cx="7632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09:39:10Z</dcterms:created>
  <dc:creator>Toindepi</dc:creator>
  <dc:description/>
  <dc:language>en-US</dc:language>
  <cp:lastModifiedBy>Toindepi</cp:lastModifiedBy>
  <dcterms:modified xsi:type="dcterms:W3CDTF">2012-10-07T12:47:29Z</dcterms:modified>
  <cp:revision>14</cp:revision>
  <dc:subject/>
  <dc:title>The Basics of preparing to integrate sustainability into ICT planning and design projects;</dc:title>
</cp:coreProperties>
</file>